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591-4FA1-41EC-B768-0EB6A48D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D30-3BB3-4895-82AA-F47C3F6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F87-0A1B-42C4-BBC5-22A29A95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29A-2CEE-46B9-BDB1-265664A2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C50-CB05-41AD-9160-72B84F96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35C3-D0EE-4A17-A2E8-7720B679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331E-8E52-437B-96A1-2C8BF0C9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4D0C-E254-403A-87E1-A4227ED8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638C-A6FD-4D64-B657-E96F999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AA14-571C-4096-89CC-4165D47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B47-663F-46F1-BB82-0FA9AA8F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5FC-CF84-458C-8569-2E17CC71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310-1862-4A87-BB1E-11F192F4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85AF-8024-47BE-95D3-EC8199F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3F1B-9278-4C82-B31A-5CFF3B5F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E23D-6060-4CBC-9F21-70ABCBED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6130-FAE5-44C6-AD65-90718E9D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F889-BB65-4A1C-9939-B5294F3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D78F-0C47-446C-B4F6-1C0744F8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07-08B0-4804-9152-5D761C3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7D7-66F8-4876-B0F8-E0BC34B2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956-2614-4085-8982-B211BC63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088-DAB3-44A1-B0C6-36024D6E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6CC-D88F-4E46-B845-4B3C112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8BE1-93EE-4BD6-BD1E-94303947F3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7E78-9991-4A1F-A0B2-DCB06D4F8E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ОЦЕС КОМУНИКАЦИЈE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нове комуни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оје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ти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ерб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а;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еверб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муник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Основни обл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рбалне комуник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азгов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говор обухват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комуникацијске вешт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лушањ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ворењ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штина комуникације подразуме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рзи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економи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рганизова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лективно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тварање повер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авети за вербалну комуник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ворити јасно, тако се може све разум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језик који је адекватан теми и примерен саговорни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речи примерене ситуац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ба бити љубазан и прихватити формалност коју налаже ситу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ти питања која ће служити за проверу да ли су други разумели оно што се при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лушати пажљиво саговорник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нхибитори комуник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зумљиво пренета порука – терминолошке несуглас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више информација (преоптерећенос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ак информ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азумевање или погрешно разумев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ољашњи фактори: бука, просторија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оцентрисаност саговор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ћуткивање, заташкавање и дезинформа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Говор у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нолог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захт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ан, концизан и живописан ток излагањ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ицање теме тј. фокуса 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абир висине интон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есан темпо излаг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ат импров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ент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љу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сновне компонент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ијалог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и концепт – излагање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менат слуш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на миш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метода и техника преговар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сагово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тока конвер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ност закључ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ербал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ини остваривања доброг односа саговор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шање саговор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технике унакрсних пи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гнорисање личног момента и занемаривање претераног емоционалног реаг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мена мирног и сигурног т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ан однос у циљу стварања пове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а пок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изање договора и компром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исана комуни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арактеристике доброг пис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асноћ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еност и језгровит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ергичн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олик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рховитос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вање пое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9T05:08:48Z</dcterms:modified>
  <cp:revision>181</cp:revision>
  <dc:subject/>
  <dc:title>Soft and Hard Skills Development: A Current Situation in Serbian Companies</dc:title>
</cp:coreProperties>
</file>